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34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C441-AFCC-4226-B4BD-707E374CD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782D-A1D0-456F-BFF7-E0DB78A1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86D2-8BC9-47C2-82B8-83D4623A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FFC6-A2C1-4345-90AD-7400EA9CC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98FE-B12D-490F-AB93-FBD64FFF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F73E-92E4-4611-9DE0-2BEEA2C3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5EB8-748C-4E3D-9DFE-78FC9B02E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A665-3E44-4B6B-A702-A986604F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EF1B-1377-4C41-973C-4655EAE5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4C44-214D-44F9-AD86-1294338D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3303-882D-4944-BF64-573C55B5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69EB-E216-4837-A905-0731AA8A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34F6-E89B-4917-AE2E-2550242F59A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pn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image" Target="../media/image11.jpeg"/><Relationship Id="rId15" Type="http://schemas.openxmlformats.org/officeDocument/2006/relationships/image" Target="../media/image12.jpeg"/><Relationship Id="rId16" Type="http://schemas.openxmlformats.org/officeDocument/2006/relationships/image" Target="../media/image13.jpeg"/><Relationship Id="rId17" Type="http://schemas.openxmlformats.org/officeDocument/2006/relationships/image" Target="../media/image14.jpeg"/><Relationship Id="rId18" Type="http://schemas.openxmlformats.org/officeDocument/2006/relationships/image" Target="../media/image15.jpeg"/><Relationship Id="rId19" Type="http://schemas.openxmlformats.org/officeDocument/2006/relationships/image" Target="../media/image16.pn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image" Target="../media/image19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image" Target="../media/image23.jpeg"/><Relationship Id="rId12" Type="http://schemas.openxmlformats.org/officeDocument/2006/relationships/image" Target="../media/image30.jpeg"/><Relationship Id="rId13" Type="http://schemas.openxmlformats.org/officeDocument/2006/relationships/image" Target="../media/image31.jpeg"/><Relationship Id="rId14" Type="http://schemas.openxmlformats.org/officeDocument/2006/relationships/image" Target="../media/image32.jpe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2000" y="333360"/>
            <a:ext cx="6337080" cy="4392720"/>
          </a:xfrm>
          <a:prstGeom prst="rect">
            <a:avLst/>
          </a:prstGeom>
          <a:solidFill>
            <a:srgbClr val="ffffff"/>
          </a:solidFill>
          <a:ln w="88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2000" y="5373720"/>
            <a:ext cx="6480000" cy="12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Sam Williams-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11280" y="4869000"/>
            <a:ext cx="4176720" cy="57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ative New Zealand Bi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7812000" y="5373720"/>
            <a:ext cx="1224000" cy="1224000"/>
          </a:xfrm>
          <a:prstGeom prst="rightArrow">
            <a:avLst>
              <a:gd name="adj1" fmla="val 53926"/>
              <a:gd name="adj2" fmla="val 59403"/>
            </a:avLst>
          </a:prstGeom>
          <a:solidFill>
            <a:srgbClr val="00ff00"/>
          </a:soli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previousslide"/>
          </p:cNvPr>
          <p:cNvSpPr/>
          <p:nvPr/>
        </p:nvSpPr>
        <p:spPr>
          <a:xfrm flipH="1">
            <a:off x="108000" y="5373720"/>
            <a:ext cx="1224000" cy="1224000"/>
          </a:xfrm>
          <a:prstGeom prst="rightArrow">
            <a:avLst>
              <a:gd name="adj1" fmla="val 53926"/>
              <a:gd name="adj2" fmla="val 59403"/>
            </a:avLst>
          </a:prstGeom>
          <a:solidFill>
            <a:srgbClr val="ff0000"/>
          </a:soli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ound">
            <a:hlinkClick r:id="rId1"/>
          </p:cNvPr>
          <p:cNvSpPr/>
          <p:nvPr/>
        </p:nvSpPr>
        <p:spPr>
          <a:xfrm>
            <a:off x="179280" y="404640"/>
            <a:ext cx="1079640" cy="8636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403280" y="404640"/>
            <a:ext cx="1130400" cy="1511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403280" y="1916280"/>
            <a:ext cx="1390680" cy="9237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403280" y="285264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403280" y="3933720"/>
            <a:ext cx="990720" cy="876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2484360" y="404640"/>
            <a:ext cx="1584360" cy="1538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2771640" y="1916280"/>
            <a:ext cx="2448000" cy="2003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2411280" y="3933720"/>
            <a:ext cx="1105200" cy="863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3492360" y="3933720"/>
            <a:ext cx="1219320" cy="809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4716360" y="3933720"/>
            <a:ext cx="1006560" cy="782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5724360" y="3860640"/>
            <a:ext cx="1266840" cy="876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4016520" y="404640"/>
            <a:ext cx="1347480" cy="1511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5219640" y="3141720"/>
            <a:ext cx="1219320" cy="809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5219640" y="1916280"/>
            <a:ext cx="1503360" cy="1214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5364000" y="404640"/>
            <a:ext cx="2232360" cy="1803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6443640" y="3141720"/>
            <a:ext cx="1152720" cy="795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6732720" y="2181240"/>
            <a:ext cx="863640" cy="1019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7024680" y="4005360"/>
            <a:ext cx="663480" cy="787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132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403280" y="404640"/>
            <a:ext cx="6337440" cy="4392720"/>
          </a:xfrm>
          <a:prstGeom prst="rect">
            <a:avLst/>
          </a:prstGeom>
          <a:solidFill>
            <a:srgbClr val="ffffff"/>
          </a:solidFill>
          <a:ln w="88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32000" y="4941720"/>
            <a:ext cx="6769080" cy="165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Kiwis love to eat so many wo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Kiwis have two nostrils at the end of there b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4508640"/>
            <a:ext cx="2411280" cy="502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iw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7920000" y="5229360"/>
            <a:ext cx="1224000" cy="1224000"/>
          </a:xfrm>
          <a:prstGeom prst="rightArrow">
            <a:avLst>
              <a:gd name="adj1" fmla="val 53926"/>
              <a:gd name="adj2" fmla="val 59403"/>
            </a:avLst>
          </a:prstGeom>
          <a:solidFill>
            <a:srgbClr val="00ff00"/>
          </a:soli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 flipH="1">
            <a:off x="108000" y="5373720"/>
            <a:ext cx="1224000" cy="1224000"/>
          </a:xfrm>
          <a:prstGeom prst="rightArrow">
            <a:avLst>
              <a:gd name="adj1" fmla="val 53926"/>
              <a:gd name="adj2" fmla="val 59403"/>
            </a:avLst>
          </a:prstGeom>
          <a:solidFill>
            <a:srgbClr val="ff0000"/>
          </a:soli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ound">
            <a:hlinkClick r:id="rId1"/>
          </p:cNvPr>
          <p:cNvSpPr/>
          <p:nvPr/>
        </p:nvSpPr>
        <p:spPr>
          <a:xfrm>
            <a:off x="179280" y="404640"/>
            <a:ext cx="1079640" cy="8636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476360" y="1413000"/>
            <a:ext cx="2155680" cy="2881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780000" y="1844640"/>
            <a:ext cx="379080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403280" y="404640"/>
            <a:ext cx="6337440" cy="4392720"/>
          </a:xfrm>
          <a:prstGeom prst="rect">
            <a:avLst/>
          </a:prstGeom>
          <a:blipFill rotWithShape="0">
            <a:blip r:embed="rId1"/>
            <a:srcRect/>
            <a:stretch/>
          </a:blipFill>
          <a:ln w="88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32000" y="5373720"/>
            <a:ext cx="6480000" cy="12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A Kiwi lives in some sort of a h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nextslide"/>
          </p:cNvPr>
          <p:cNvSpPr/>
          <p:nvPr/>
        </p:nvSpPr>
        <p:spPr>
          <a:xfrm>
            <a:off x="7812000" y="5373720"/>
            <a:ext cx="1224000" cy="1224000"/>
          </a:xfrm>
          <a:prstGeom prst="rightArrow">
            <a:avLst>
              <a:gd name="adj1" fmla="val 53926"/>
              <a:gd name="adj2" fmla="val 59403"/>
            </a:avLst>
          </a:prstGeom>
          <a:solidFill>
            <a:srgbClr val="00ff00"/>
          </a:soli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" action="ppaction://hlinkshowjump?jump=previousslide"/>
          </p:cNvPr>
          <p:cNvSpPr/>
          <p:nvPr/>
        </p:nvSpPr>
        <p:spPr>
          <a:xfrm flipH="1">
            <a:off x="108000" y="5373720"/>
            <a:ext cx="1224000" cy="1224000"/>
          </a:xfrm>
          <a:prstGeom prst="rightArrow">
            <a:avLst>
              <a:gd name="adj1" fmla="val 53926"/>
              <a:gd name="adj2" fmla="val 59403"/>
            </a:avLst>
          </a:prstGeom>
          <a:solidFill>
            <a:srgbClr val="ff0000"/>
          </a:soli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ound">
            <a:hlinkClick r:id="rId2"/>
          </p:cNvPr>
          <p:cNvSpPr/>
          <p:nvPr/>
        </p:nvSpPr>
        <p:spPr>
          <a:xfrm>
            <a:off x="250920" y="620640"/>
            <a:ext cx="1079280" cy="8636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403280" y="2349360"/>
            <a:ext cx="5095800" cy="2362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48000" y="4510080"/>
            <a:ext cx="2411280" cy="503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iw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7956720" y="404640"/>
            <a:ext cx="1008000" cy="10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48148E-006 C 0.01024 0.00232 0.01284 0.00116 0.01875 0.0125 C 0.02083 0.01667 0.025 0.025 0.025 0.025 C 0.02777 0.01412 0.02482 0.02292 0.03125 0.0125 C 0.03246 0.01065 0.03524 0.00857 0.03437 0.00625 C 0.03368 0.0044 0.03125 0.00764 0.02968 0.00834 C 0.03715 -0.01643 0.02881 0.00695 0.03437 0.02917 C 0.03541 0.03334 0.03645 0.02084 0.0375 0.01667 C 0.03802 0.01436 0.03437 0.02547 0.03437 0.02292 C 0.03437 0.02037 0.03958 0.00695 0.04062 0.00417 C 0.04288 0.01574 0.04045 0.02176 0.0375 0.03334 C 0.03697 0.03542 0.03854 0.02917 0.03906 0.02709 C 0.03958 0.025 0.04236 0.02593 0.04375 0.025 C 0.04548 0.02385 0.04687 0.02223 0.04843 0.02084 C 0.04895 0.02361 0.04965 0.02639 0.05 0.02917 C 0.05069 0.03403 0.04791 0.04283 0.05156 0.04375 C 0.0552 0.04468 0.05572 0.03542 0.05781 0.03125 C 0.06371 0.01945 0.08802 0.00255 0.09843 -0.00208 C 0.09513 0.00903 0.08958 0.01829 0.08593 0.02917 C 0.08454 0.03311 0.08159 0.04584 0.08281 0.04167 C 0.08454 0.03611 0.08559 0.03033 0.0875 0.025 C 0.08836 0.02269 0.08975 0.02107 0.09062 0.01875 C 0.09131 0.0169 0.09357 0.01343 0.09218 0.0125 C 0.09045 0.01135 0.08906 0.01528 0.0875 0.01667 C 0.0842 0.02385 0.07934 0.02986 0.07656 0.0375 C 0.07534 0.04074 0.07638 0.04491 0.075 0.04792 C 0.07361 0.05093 0.06875 0.0507 0.06875 0.05417 C 0.06875 0.05718 0.07291 0.05162 0.075 0.05 C 0.08125 0.04537 0.0875 0.04028 0.09375 0.03542 C 0.09756 0.03241 0.10225 0.03172 0.10625 0.02917 C 0.11822 0.02176 0.12031 0.01644 0.13281 0.0125 C 0.13993 0.01019 0.14739 0.01019 0.15468 0.00834 C 0.15729 0.00903 0.16128 0.00718 0.1625 0.01042 C 0.16354 0.01297 0.15902 0.01412 0.15781 0.01667 C 0.15173 0.0301 0.15243 0.04005 0.14062 0.04792 C 0.13784 0.04977 0.13437 0.04931 0.13125 0.05 C 0.12916 0.05209 0.12725 0.05463 0.125 0.05625 C 0.12361 0.05741 0.12065 0.06042 0.12031 0.05834 C 0.11961 0.05394 0.12204 0.04977 0.12343 0.04584 C 0.12916 0.03079 0.14461 0.02176 0.15625 0.01875 C 0.14774 0.02639 0.14114 0.03311 0.13125 0.0375 C 0.13229 0.03542 0.13281 0.03264 0.13437 0.03125 C 0.13611 0.02963 0.13871 0.03033 0.14062 0.02917 C 0.16232 0.01713 0.14531 0.02338 0.15937 0.01875 C 0.17291 0.00672 0.15642 0.01991 0.16093 0.02292 C 0.16388 0.02477 0.16753 0.0213 0.17031 0.01875 C 0.17187 0.01736 0.17638 0.01273 0.175 0.01459 C 0.17309 0.01713 0.17083 0.01875 0.16875 0.02084 C 0.16822 0.02292 0.16718 0.02917 0.16718 0.02709 C 0.16718 0.02431 0.16736 0.02107 0.16875 0.01875 C 0.17031 0.01644 0.17309 0.01621 0.175 0.01459 C 0.17777 0.01204 0.18003 0.00857 0.18281 0.00625 C 0.19652 -0.00555 0.21302 -0.01481 0.22812 -0.02291 C 0.2276 -0.01944 0.22795 -0.01551 0.22656 -0.0125 C 0.22465 -0.00879 0.221 -0.0074 0.21875 -0.00416 C 0.21319 0.00394 0.20815 0.01227 0.20312 0.02084 C 0.19878 0.02824 0.19062 0.04375 0.19062 0.04375 C 0.1901 0.04653 0.19097 0.0507 0.18906 0.05209 C 0.18767 0.05301 0.18715 0.04792 0.1875 0.04584 C 0.18784 0.04329 0.18923 0.04121 0.19062 0.03959 C 0.19236 0.0375 0.19479 0.03704 0.19687 0.03542 C 0.21302 0.02292 0.20399 0.02732 0.21406 0.02292 C 0.21979 0.01528 0.22638 0.01273 0.23281 0.00625 C 0.23888 0.01852 0.23437 0.00602 0.23437 0.02084 C 0.23437 0.02431 0.23541 0.02778 0.23593 0.03125 C 0.2401 0.02709 0.24427 0.02292 0.24843 0.01875 C 0.26059 0.00648 0.24861 0.01019 0.26093 0.00209 C 0.26493 -0.00046 0.26944 -0.00162 0.27343 -0.00416 C 0.27447 -0.00208 0.27621 -0.00046 0.27656 0.00209 C 0.2769 0.00417 0.275 0.00625 0.275 0.00834 C 0.275 0.01598 0.27604 0.02361 0.27656 0.03125 C 0.2842 0.02709 0.29097 0.02153 0.29843 0.01667 C 0.29947 0.01459 0.30017 0.01204 0.30156 0.01042 C 0.30746 0.00417 0.30711 0.01158 0.31093 0.01667 C 0.31232 0.01852 0.31406 0.01945 0.31562 0.02084 C 0.32343 0.03658 0.33246 0.04422 0.34375 0.05417 C 0.35052 0.05348 0.35729 0.05209 0.36406 0.05209 C 0.36875 0.05209 0.35468 0.05324 0.35 0.05417 C 0.3269 0.05857 0.33819 0.05834 0.32812 0.05834 E">
                                      <p:cBhvr>
                                        <p:cTn id="12" dur="5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493 0.44073 C -0.14358 0.46921 -0.09462 0.41759 -0.0868 0.45948 C -0.09184 0.47985 -0.10208 0.49745 -0.10712 0.51782 C -0.1066 0.52059 -0.10764 0.52592 -0.10555 0.52615 C -0.10226 0.52661 -0.08281 0.51319 -0.08055 0.51157 C -0.04427 0.48471 -0.00503 0.46226 0.03507 0.44698 C 0.03767 0.44768 0.04167 0.44583 0.04288 0.44907 C 0.04445 0.45346 0.04184 0.45879 0.04132 0.46365 C 0.03958 0.48124 0.03958 0.48217 0.0382 0.50115 C 0.04896 0.50833 0.06111 0.50208 0.07257 0.49907 C 0.08142 0.49976 0.09288 0.49282 0.09913 0.50115 C 0.12205 0.53171 0.09965 0.53032 0.09288 0.53032 E">
                                      <p:cBhvr>
                                        <p:cTn id="17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03280" y="404640"/>
            <a:ext cx="6337440" cy="4392720"/>
          </a:xfrm>
          <a:prstGeom prst="rect">
            <a:avLst/>
          </a:prstGeom>
          <a:solidFill>
            <a:srgbClr val="ffffff"/>
          </a:solidFill>
          <a:ln w="88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58920" y="5300640"/>
            <a:ext cx="6480000" cy="12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Writ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7812000" y="5373720"/>
            <a:ext cx="1224000" cy="1224000"/>
          </a:xfrm>
          <a:prstGeom prst="rightArrow">
            <a:avLst>
              <a:gd name="adj1" fmla="val 53926"/>
              <a:gd name="adj2" fmla="val 59403"/>
            </a:avLst>
          </a:prstGeom>
          <a:solidFill>
            <a:srgbClr val="00ff00"/>
          </a:soli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 flipH="1">
            <a:off x="108000" y="5373720"/>
            <a:ext cx="1224000" cy="1224000"/>
          </a:xfrm>
          <a:prstGeom prst="rightArrow">
            <a:avLst>
              <a:gd name="adj1" fmla="val 53926"/>
              <a:gd name="adj2" fmla="val 59403"/>
            </a:avLst>
          </a:prstGeom>
          <a:solidFill>
            <a:srgbClr val="ff0000"/>
          </a:soli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ound">
            <a:hlinkClick r:id="rId1"/>
          </p:cNvPr>
          <p:cNvSpPr/>
          <p:nvPr/>
        </p:nvSpPr>
        <p:spPr>
          <a:xfrm>
            <a:off x="179280" y="404640"/>
            <a:ext cx="1079640" cy="8636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619280" y="333360"/>
            <a:ext cx="5761080" cy="4319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348000" y="4510080"/>
            <a:ext cx="2411280" cy="503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03280" y="404640"/>
            <a:ext cx="6337440" cy="4392720"/>
          </a:xfrm>
          <a:prstGeom prst="rect">
            <a:avLst/>
          </a:prstGeom>
          <a:solidFill>
            <a:srgbClr val="ffffff"/>
          </a:solidFill>
          <a:ln w="88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32000" y="5373720"/>
            <a:ext cx="6480000" cy="12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Garden Bi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48000" y="4510080"/>
            <a:ext cx="2411280" cy="503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7812000" y="5373720"/>
            <a:ext cx="1224000" cy="1224000"/>
          </a:xfrm>
          <a:prstGeom prst="rightArrow">
            <a:avLst>
              <a:gd name="adj1" fmla="val 53926"/>
              <a:gd name="adj2" fmla="val 59403"/>
            </a:avLst>
          </a:prstGeom>
          <a:solidFill>
            <a:srgbClr val="00ff00"/>
          </a:soli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 flipH="1">
            <a:off x="108000" y="5373720"/>
            <a:ext cx="1224000" cy="1224000"/>
          </a:xfrm>
          <a:prstGeom prst="rightArrow">
            <a:avLst>
              <a:gd name="adj1" fmla="val 53926"/>
              <a:gd name="adj2" fmla="val 59403"/>
            </a:avLst>
          </a:prstGeom>
          <a:solidFill>
            <a:srgbClr val="ff0000"/>
          </a:soli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ound">
            <a:hlinkClick r:id="rId1"/>
          </p:cNvPr>
          <p:cNvSpPr/>
          <p:nvPr/>
        </p:nvSpPr>
        <p:spPr>
          <a:xfrm>
            <a:off x="179280" y="404640"/>
            <a:ext cx="1079640" cy="8636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403280" y="404640"/>
            <a:ext cx="1368360" cy="1368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403280" y="1773360"/>
            <a:ext cx="1832040" cy="1831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403280" y="3573360"/>
            <a:ext cx="1273320" cy="1273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2627280" y="3429000"/>
            <a:ext cx="1422360" cy="1422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3132000" y="1557360"/>
            <a:ext cx="1987560" cy="1987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3995640" y="3429000"/>
            <a:ext cx="1386000" cy="1386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5219640" y="3284640"/>
            <a:ext cx="2449440" cy="1493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5076720" y="1413000"/>
            <a:ext cx="2657520" cy="1923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0"/>
          <a:stretch/>
        </p:blipFill>
        <p:spPr>
          <a:xfrm>
            <a:off x="2771640" y="404640"/>
            <a:ext cx="1578240" cy="1578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1"/>
          <a:stretch/>
        </p:blipFill>
        <p:spPr>
          <a:xfrm>
            <a:off x="4521240" y="3378240"/>
            <a:ext cx="100080" cy="100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2"/>
          <a:stretch/>
        </p:blipFill>
        <p:spPr>
          <a:xfrm>
            <a:off x="4356000" y="404640"/>
            <a:ext cx="1368360" cy="1368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3"/>
          <a:stretch/>
        </p:blipFill>
        <p:spPr>
          <a:xfrm>
            <a:off x="5724360" y="40464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4"/>
          <a:stretch/>
        </p:blipFill>
        <p:spPr>
          <a:xfrm>
            <a:off x="6948360" y="404640"/>
            <a:ext cx="1008360" cy="10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03280" y="404640"/>
            <a:ext cx="6337440" cy="4392720"/>
          </a:xfrm>
          <a:prstGeom prst="rect">
            <a:avLst/>
          </a:prstGeom>
          <a:blipFill rotWithShape="0">
            <a:blip r:embed="rId1"/>
            <a:srcRect/>
            <a:stretch/>
          </a:blipFill>
          <a:ln w="889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32000" y="5373720"/>
            <a:ext cx="6480000" cy="1224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Comic Sans MS"/>
              </a:rPr>
              <a:t>I think a fantail is a garden bi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48000" y="4510080"/>
            <a:ext cx="2411280" cy="503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7812000" y="5373720"/>
            <a:ext cx="1224000" cy="1224000"/>
          </a:xfrm>
          <a:prstGeom prst="rightArrow">
            <a:avLst>
              <a:gd name="adj1" fmla="val 53926"/>
              <a:gd name="adj2" fmla="val 59403"/>
            </a:avLst>
          </a:prstGeom>
          <a:solidFill>
            <a:srgbClr val="00ff00"/>
          </a:soli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 flipH="1">
            <a:off x="108000" y="5373720"/>
            <a:ext cx="1224000" cy="1224000"/>
          </a:xfrm>
          <a:prstGeom prst="rightArrow">
            <a:avLst>
              <a:gd name="adj1" fmla="val 53926"/>
              <a:gd name="adj2" fmla="val 59403"/>
            </a:avLst>
          </a:prstGeom>
          <a:solidFill>
            <a:srgbClr val="ff0000"/>
          </a:soli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ound">
            <a:hlinkClick r:id="rId2"/>
          </p:cNvPr>
          <p:cNvSpPr/>
          <p:nvPr/>
        </p:nvSpPr>
        <p:spPr>
          <a:xfrm>
            <a:off x="179280" y="404640"/>
            <a:ext cx="1079640" cy="8636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2268360" y="692280"/>
            <a:ext cx="4391280" cy="3714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02:34:43Z</dcterms:created>
  <dc:creator>Martyn Weatherill</dc:creator>
  <dc:description/>
  <dc:language>en-US</dc:language>
  <cp:lastModifiedBy>newerait</cp:lastModifiedBy>
  <dcterms:modified xsi:type="dcterms:W3CDTF">2010-08-11T20:54:07Z</dcterms:modified>
  <cp:revision>30</cp:revision>
  <dc:subject/>
  <dc:title>Slide 1</dc:title>
</cp:coreProperties>
</file>